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C1F3-D0EE-4051-BE78-100DAAFE75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6A02-09A0-4DAC-B0FF-EB181084B70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9666-0E57-41AE-B389-34254CD3F9B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0D75-50DD-4583-887E-6F68DC5EF9E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7B425-0746-4DBD-9108-41F22A32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591C7-1B67-49DD-8B04-BF3E29CA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AC7A6-A1CC-4E62-B253-190CF770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21CB6-2B6D-4C9A-A704-6AC98D1A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7ACC7-5ABF-4524-837B-081C0AB8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2E9B3-FDD9-44E0-A4EA-40123F32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F9FDD-D8D6-437A-B3B5-9DE55BF8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81C47-9C31-4ACA-9B5F-EE2D47C6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89160-FA3D-4FB7-BB93-49134CAB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DCDBC-CBE2-48EB-9EBB-EB48EBAF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514CB-9493-4547-98F5-4C279004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709DD-C733-4DD0-9EB8-2ED756B4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0C83-E308-4C52-BFCD-48A899D832A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55CD-BFA8-4C3B-B00A-B54A9CD5E6C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E716-00F6-484B-82BD-990AF6C3EAD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333B-FEFA-46AF-81B1-DD29707CDF3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0BF0-5DF9-47C1-9142-094DDD514AE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 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 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8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00880"/>
            <a:chOff x="0" y="0"/>
            <a:chExt cx="9358200" cy="650088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8480"/>
                <a:chOff x="356760" y="785520"/>
                <a:chExt cx="8644320" cy="304848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16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4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3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15600" cy="2530440"/>
              <a:chOff x="285480" y="3970440"/>
              <a:chExt cx="8715600" cy="253044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12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573040" cy="2503440"/>
                <a:chOff x="356760" y="3970440"/>
                <a:chExt cx="8573040" cy="250344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532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51480"/>
                  <a:ext cx="8573040" cy="19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세부 내용 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0-211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5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17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356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와 문제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6080"/>
              <a:chOff x="142920" y="-71280"/>
              <a:chExt cx="8858160" cy="328608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760"/>
                <a:chOff x="285480" y="500040"/>
                <a:chExt cx="8715600" cy="271476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에 머무는 시간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1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유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여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보다 개인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 및 여가활동 사용시간이 더 많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일 여가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+ 4.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에 소비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 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9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초 가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산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여가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6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5.6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4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0.4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이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금씩 증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이나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1:36:30Z</dcterms:modified>
  <cp:revision>3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